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7F9-8AAE-4731-BDB1-433096CF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52D-1333-4442-AC13-AD46E2EE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1DD-1118-4EB9-BE4B-D933B829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0C2-1EAC-469A-9DC6-3F439742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047-7CA8-4A73-A8DC-85B380C1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909-6447-4697-91D1-817C6555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7CE-AF90-4982-A9BA-EC062176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8EA-9A6A-4FDB-BC99-A5D00FCF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DF7-8ADF-493A-987D-20FA1A6E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781-E0FA-479D-A3E7-FB535C3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009-E914-4DA5-8A18-1550D08B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268-D69A-4AEC-8908-3A6EE97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F309-623C-49F5-9400-F048A35E7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_ice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56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62800" y="685800"/>
            <a:ext cx="710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the same day (21 December 2001, 12 hour forecast time) the following fig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s the ice content of the first (left) and of the second (right) soil layer for Fra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 values are found especially in the mountainous areas, where the su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ce content in the two layers amounts to some 10 k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7:18:38Z</dcterms:created>
  <dc:creator>Testuser</dc:creator>
  <dc:description/>
  <dc:language>en-US</dc:language>
  <cp:lastModifiedBy>Testuser</cp:lastModifiedBy>
  <dcterms:modified xsi:type="dcterms:W3CDTF">2002-11-07T07:30:07Z</dcterms:modified>
  <cp:revision>1</cp:revision>
  <dc:subject/>
  <dc:title>Kein Folientitel</dc:title>
</cp:coreProperties>
</file>