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A86-833F-4208-9CFB-B9EEC785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CB7-DADC-4796-8693-EDE02C33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FF0-0196-4719-A8E8-BDC7777F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6E2-44EA-4FFE-8444-5DB9E4A0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6588-B506-4AF3-91A5-0A6372E6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758-EFFE-47E8-8E26-F28AC01A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669-EE5A-4A29-958B-89F2944A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082-B2B9-48B7-9A20-BF02737A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716-DB48-4FFF-A243-893E6150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658-58E4-4C9C-AF22-EBC24863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9441-0662-4683-AF88-6B8CCA31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639-B140-45B3-95F8-EAC62DD3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D606-8D9B-4193-A434-D141C709E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g_ana24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85800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2360" y="762120"/>
            <a:ext cx="752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fter 24 hours temperatures in most of the area are below -4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C in the operational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ana_3750), this cooling is reduced considerably, when freezing of soil water is includ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ana_3939). In the past 12 hours on average more than 2 kg/m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of ice have been produc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the uppermost soil layer (lower left part of the figu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6:45:39Z</dcterms:created>
  <dc:creator>Testuser</dc:creator>
  <dc:description/>
  <dc:language>en-US</dc:language>
  <cp:lastModifiedBy>Testuser</cp:lastModifiedBy>
  <cp:lastPrinted>2002-11-07T07:06:38Z</cp:lastPrinted>
  <dcterms:modified xsi:type="dcterms:W3CDTF">2002-11-07T07:14:26Z</dcterms:modified>
  <cp:revision>3</cp:revision>
  <dc:subject/>
  <dc:title>Kein Folientitel</dc:title>
</cp:coreProperties>
</file>