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497-D99D-4CA3-A1EB-145F8B97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262-A501-465F-9D29-8F9BC105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B62-516E-49EC-B80F-5AD89EA8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63D-2963-4476-A09C-9E1972F9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A01-4742-40FC-9E1B-E0F35C8D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8DB-2BD0-4022-81B0-F9A3FEEE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26E-10A4-4F39-8D3C-5EF545A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CCB-DE04-4A10-ACBF-B3CAA19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2D3-44FC-4928-A3CE-1DE09F2F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C66-03D2-4DF6-BB6D-819E02D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BB1-9DF4-41B9-A628-8756B67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097-B694-4131-A293-468B24EF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8290-A677-47DB-A05D-23A52EC67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g_ana1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491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54640" y="533520"/>
            <a:ext cx="763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sensitivity experiment with LM was performed for 21 December 2001, 00:00 U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ana_3750: operational model, ana_3939: multilayer soil model including freezing/mel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ong advection of cold air resulted in a considerable drop of temperatures in Denma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fter 12 hours (see below) temperatures in most of Denmark and northern Germany do n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ffer significantly, as the cooling only started in the north-eastern part of Jutlan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6:33:48Z</dcterms:created>
  <dc:creator>Testuser</dc:creator>
  <dc:description/>
  <dc:language>en-US</dc:language>
  <cp:lastModifiedBy>Testuser</cp:lastModifiedBy>
  <dcterms:modified xsi:type="dcterms:W3CDTF">2002-11-07T07:11:38Z</dcterms:modified>
  <cp:revision>2</cp:revision>
  <dc:subject/>
  <dc:title>Kein Folientitel</dc:title>
</cp:coreProperties>
</file>