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1AA-8C3D-4F39-8902-782099E2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9A6-6FE7-458D-83C2-36CB0E56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26C-440A-4E23-9900-80699CEC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899-7FA4-49BA-9358-03D4F9A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564-0265-4EE0-B135-EDFD5B8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D25-668F-4FC3-B217-E09B1F55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25D-D15C-438B-99E6-3CB3E6C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3FC-EF3B-4C58-9D84-8A3FCB4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21C-F03A-47B9-B70E-AA4485F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7B1-41E2-4394-B611-D2286DD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FBA-A849-4461-BAFE-87D6267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D2E-5AE9-406D-BECE-C1336AE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02B-28CA-43C4-80F0-D06A6EB1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5440" y="457200"/>
            <a:ext cx="734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contrast to the situation with temperature, no reliable data sets are available for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boundary conditions for soil water content. The figure shows as an example 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of climatological soil water content for July. But even reliable data sets are adju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ome special soil model and therefore they are not suitable for a different model.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reason to neglect any capillary transport at the lower boundary of the active so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u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2:34:37Z</dcterms:created>
  <dc:creator>Testuser</dc:creator>
  <dc:description/>
  <dc:language>en-US</dc:language>
  <cp:lastModifiedBy>Testuser</cp:lastModifiedBy>
  <cp:lastPrinted>2002-11-07T12:44:59Z</cp:lastPrinted>
  <dcterms:modified xsi:type="dcterms:W3CDTF">2002-11-07T12:45:02Z</dcterms:modified>
  <cp:revision>2</cp:revision>
  <dc:subject/>
  <dc:title>Kein Folientitel</dc:title>
</cp:coreProperties>
</file>