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250-749B-40D4-A537-228F0AA0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0FA-B571-4B57-9046-775C9518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969-5638-4F56-8D8E-73DBDA49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DB8-F79F-4CDF-B2F8-B8BE449A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7E8-0C8B-40F1-BF22-83249F52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536-48EB-4092-AD30-0CBD1E0D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9ED-2640-4099-9A40-4FEF054D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64E-F3F9-45F0-B888-4057AE0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76A-6EB9-44BE-8DB7-6CDAB7B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39C-2AB8-4845-B1EF-6D54623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246-D41C-447E-8EDC-3D1823E3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B43-9D6C-4B3C-9925-99132E1B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0C4-5977-4280-912D-DE054C9B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57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685800"/>
            <a:ext cx="4114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lay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905120"/>
            <a:ext cx="3124080" cy="2286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133720"/>
            <a:ext cx="31240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438280"/>
            <a:ext cx="31240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312408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581280"/>
            <a:ext cx="312408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4495680"/>
            <a:ext cx="3124080" cy="1295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61800" y="1870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8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1800" y="2631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9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61800" y="3317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1800" y="4232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8120" y="5603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1800" y="1641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54864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8080" y="6594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58:18Z</dcterms:created>
  <dc:creator>Testuser</dc:creator>
  <dc:description/>
  <dc:language>en-US</dc:language>
  <cp:lastModifiedBy>Testuser</cp:lastModifiedBy>
  <cp:lastPrinted>2002-09-10T09:20:06Z</cp:lastPrinted>
  <dcterms:modified xsi:type="dcterms:W3CDTF">2002-09-10T09:20:14Z</dcterms:modified>
  <cp:revision>3</cp:revision>
  <dc:subject/>
  <dc:title>Kein Folientitel</dc:title>
</cp:coreProperties>
</file>