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9D6-4EEA-4348-BC1E-146B159F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088-9180-4EAF-ADFB-2A7ABF94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E6E-63C3-45EF-A6B6-CB3B3ADF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ABE-A610-45CA-A80D-4CCA82E2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243-6746-46A0-BD3C-3C579460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720-96E1-4ED6-BEAD-80A13FD4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29D-76A4-4B90-8E9A-49F28BD5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154-59BE-4C23-84CB-964E9797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574-864C-470B-9C8A-C1FB8B68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3D7-566F-4457-B546-6313083C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D08-915D-484A-9732-7B3B059A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1ED-F101-486A-97C6-698BD81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87E9-E5F1-4CFA-8C0E-DDC28B622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7010640" cy="6098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nual mean temperature will be based on a global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in the Internet by the University of East Angl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t_climat" descr=""/>
          <p:cNvPicPr/>
          <p:nvPr/>
        </p:nvPicPr>
        <p:blipFill>
          <a:blip r:embed="rId1"/>
          <a:stretch/>
        </p:blipFill>
        <p:spPr>
          <a:xfrm>
            <a:off x="838080" y="1851120"/>
            <a:ext cx="74678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4:44:59Z</dcterms:created>
  <dc:creator>Testuser</dc:creator>
  <dc:description/>
  <dc:language>en-US</dc:language>
  <cp:lastModifiedBy>Testuser</cp:lastModifiedBy>
  <dcterms:modified xsi:type="dcterms:W3CDTF">2002-11-07T12:03:09Z</dcterms:modified>
  <cp:revision>3</cp:revision>
  <dc:subject/>
  <dc:title>Kein Folientitel</dc:title>
</cp:coreProperties>
</file>