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DBC-6448-4FD6-892D-09A6A210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C0A-A35B-4DB0-9474-6610DA8C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17E-A016-483A-96AC-0EE7C283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4D5-FE57-4734-85DD-A9428127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857-D8B6-41D7-8E2E-8A65A81A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EDA-71BD-467C-B954-B4DB40A8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429C-8E31-4E3A-AD46-E7B314C1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511-8642-4739-9C57-356AD245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776-01ED-478C-B9A9-EEE175B3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E5E-D29B-4429-95BB-E786DF51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EBC-91BE-4E48-9061-E018C59C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384-206C-4E4A-BA76-A8F876A6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2B3D-6313-4F43-95AE-779A8FDAD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457200"/>
            <a:ext cx="457200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of the equation of heat con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020600" y="1447920"/>
                <a:ext cx="4816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c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λ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143000" y="2666880"/>
            <a:ext cx="4648320" cy="2210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ypical values of the soil paramet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2.25 m for the annual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ve. At a depth of 7.29 m the amplitu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is wave is reduced to 4 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6019920"/>
            <a:ext cx="457200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view of other model uncertain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annual mean near surface temper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ture can be prescribed as a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ameter at a depth below 7.29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3:31:48Z</dcterms:created>
  <dc:creator>Testuser</dc:creator>
  <dc:description/>
  <dc:language>en-US</dc:language>
  <cp:lastModifiedBy>Testuser</cp:lastModifiedBy>
  <cp:lastPrinted>2002-11-06T14:06:35Z</cp:lastPrinted>
  <dcterms:modified xsi:type="dcterms:W3CDTF">2002-11-06T14:13:34Z</dcterms:modified>
  <cp:revision>1</cp:revision>
  <dc:subject/>
  <dc:title>Kein Folientitel</dc:title>
</cp:coreProperties>
</file>