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2B2-A512-4374-8CE6-72A444A7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2A9-AA96-4CD5-83DE-CE50AA7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AD0-1ED9-4BE4-BE4A-99E09AB6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1F6-55E1-4C46-B29A-6C2827C4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63A-A64B-45BA-B5B9-B5CE3B1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FBF-B3E1-45C5-8BD7-EF2DBABF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47E-DC6A-496D-A72D-0FFBE83A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3AA-ACFB-4026-A705-DB2A3BC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0C0-9267-4A74-9A12-B8A057E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D4B-F0C8-4378-A934-08CF663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81B-E01C-43C2-860A-AF4313F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238-2765-4E9B-B669-DBDC551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9FE0-BE06-47EA-98C2-B42311BD7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57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685800"/>
            <a:ext cx="4114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lay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905120"/>
            <a:ext cx="3124080" cy="228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133720"/>
            <a:ext cx="31240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438280"/>
            <a:ext cx="31240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312408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581280"/>
            <a:ext cx="312408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4495680"/>
            <a:ext cx="3124080" cy="1295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791320"/>
            <a:ext cx="3124080" cy="152388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7315200"/>
            <a:ext cx="3124080" cy="1447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1800" y="187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8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1800" y="2631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9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61800" y="3317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1800" y="4232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8120" y="5603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38120" y="7051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29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5840" y="8499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8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7848720"/>
            <a:ext cx="2209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61800" y="164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58:18Z</dcterms:created>
  <dc:creator>Testuser</dc:creator>
  <dc:description/>
  <dc:language>en-US</dc:language>
  <cp:lastModifiedBy>Testuser</cp:lastModifiedBy>
  <cp:lastPrinted>2002-09-10T09:21:05Z</cp:lastPrinted>
  <dcterms:modified xsi:type="dcterms:W3CDTF">2002-09-10T09:21:11Z</dcterms:modified>
  <cp:revision>3</cp:revision>
  <dc:subject/>
  <dc:title>Kein Folientitel</dc:title>
</cp:coreProperties>
</file>