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32600" cy="9740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F17-5451-4B6C-B006-7F480619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A20-65EE-4FE3-96C2-17D1813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8A5-F77F-4225-A231-DE223411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9FC-926F-46F2-B3B6-3AD0EFF7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754-D6C8-4CD6-A9F3-48D87A0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4A8-2B57-46B9-A44B-7891442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8FD-89F2-434D-870B-11972EF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9AD-A781-4080-A76C-33489C6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9A9-E6ED-4B35-B5BE-19E81D0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268-BD85-495D-8821-2844466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378-B38B-459D-A57A-DEC0FFB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4DF-98CD-4C13-BEC0-0BEC66D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7094-588E-4ED3-8D0E-DCE9E330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0160" y="228600"/>
            <a:ext cx="4063680" cy="571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12880" y="108576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ulti layer soil model has been implement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in GME and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ual mean 2m-temperatures are prescribed as low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boundary values for the heat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water budget gravitational drainage is used 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boundary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LM a nudging assimilation is running, it starte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ec. 15, 2001; at present Jan. 8, 2002 is assimi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s with both models will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1:38:26Z</dcterms:created>
  <dc:creator>Testuser</dc:creator>
  <dc:description/>
  <dc:language>en-US</dc:language>
  <cp:lastModifiedBy>Testuser</cp:lastModifiedBy>
  <cp:lastPrinted>2002-09-24T11:57:20Z</cp:lastPrinted>
  <dcterms:modified xsi:type="dcterms:W3CDTF">2002-09-24T11:57:31Z</dcterms:modified>
  <cp:revision>2</cp:revision>
  <dc:subject/>
  <dc:title>Kein Folientitel</dc:title>
</cp:coreProperties>
</file>