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C6E-F65D-4B8D-96E2-C45B7F2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F9B-E49A-44C9-A9CB-B48AE3F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4C7-C0EE-48CE-80FA-1B9DCF4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FBF-01D1-4C5B-8E68-8DBE700B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BFA-8ED9-4CC0-A0DF-5B118F60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788-1E2E-4C16-9378-9271F167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CAD-8F24-46B8-92B0-4F8E0A0F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4EB-2642-4945-A4A4-5A3179D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05D-3428-4A94-9400-21AA557C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B6C-7D33-4CF0-A02F-5EA0E81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CD6-EC52-4329-B8C3-7932E41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33F-59B3-43CC-888B-98CD924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578-D0BF-41D2-A087-AED25702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6858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multi layer soi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LM and G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Erdmann Heise, Bodo Ritter, Reinhold Schro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utscher Wetterdienst, Offenbach am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8640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im of the new model version is to allow for the inclusion of freezing/melting of soil water/ 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tended force-restore-method is replaced by a direct solution of the heat conduction equation in a multi-layer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depth of the active part of the soil and the provision of boundary val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5120" y="1108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94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th COSMO Gener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GW, Warsaw, Poland, 25-27 Sept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1:40:13Z</dcterms:created>
  <dc:creator>Testuser</dc:creator>
  <dc:description/>
  <dc:language>en-US</dc:language>
  <cp:lastModifiedBy>Testuser</cp:lastModifiedBy>
  <cp:lastPrinted>2002-09-12T11:27:24Z</cp:lastPrinted>
  <dcterms:modified xsi:type="dcterms:W3CDTF">2002-09-12T11:27:38Z</dcterms:modified>
  <cp:revision>3</cp:revision>
  <dc:subject/>
  <dc:title>Kein Folientitel</dc:title>
</cp:coreProperties>
</file>