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0085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BC3C-5E95-4546-A6EA-94289E88B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7E69-67E1-4303-A275-EB7BB9AE7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FE75-8B0B-4285-8C4F-872EDECBD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95C0-6ED8-49B8-A171-C84A27BC5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2668-AC0E-44BF-BA89-EC585416E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977B-F45F-4912-8936-4B76CFB98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7626-D4D4-44B1-AEF6-3AF846D09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F620-8E25-4EF5-9A5B-29C29B7E0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A6E4-DB8E-40D1-8493-6806A6FE5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D090-05CD-4DAA-AD08-5C400862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D90F-F11C-4604-B630-EA44580C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9216-7721-448E-8755-8D253B17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85A09-5BAF-4F46-806C-C541CBF10D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EH_conv_2.ppt" TargetMode="External"/><Relationship Id="rId2" Type="http://schemas.openxmlformats.org/officeDocument/2006/relationships/hyperlink" Target="file:///EH_conv_2.ppt" TargetMode="External"/><Relationship Id="rId3" Type="http://schemas.openxmlformats.org/officeDocument/2006/relationships/hyperlink" Target="file:///EH_conv_3.ppt" TargetMode="External"/><Relationship Id="rId4" Type="http://schemas.openxmlformats.org/officeDocument/2006/relationships/hyperlink" Target="file:///EH_conv_4.ppt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57200"/>
            <a:ext cx="6858000" cy="25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Tests with the Tiedtk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convection sche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rdmann He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utscher Wetterdienst, Offenbach am 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05120" y="1108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39408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th COSMO General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GW, Warsaw, Poland, 25-27 September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5040" y="5146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6095880"/>
            <a:ext cx="595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sure conditions, tuning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ctive gusts (--&gt; Jan-Peter Schul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ctive dri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D-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335960" y="8077320"/>
            <a:ext cx="4185360" cy="459720"/>
            <a:chOff x="1335960" y="8077320"/>
            <a:chExt cx="4185360" cy="459720"/>
          </a:xfrm>
        </p:grpSpPr>
        <p:sp>
          <p:nvSpPr>
            <p:cNvPr id="47" name=""/>
            <p:cNvSpPr/>
            <p:nvPr/>
          </p:nvSpPr>
          <p:spPr>
            <a:xfrm>
              <a:off x="1335960" y="8077320"/>
              <a:ext cx="98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page</a:t>
              </a:r>
              <a:r>
                <a:rPr b="0" lang="en-US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2"/>
                </a:rPr>
                <a:t>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935800" y="8077320"/>
              <a:ext cx="98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3"/>
                </a:rPr>
                <a:t>page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36000" y="8077320"/>
              <a:ext cx="98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4"/>
                </a:rPr>
                <a:t>page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0T11:40:13Z</dcterms:created>
  <dc:creator>Testuser</dc:creator>
  <dc:description/>
  <dc:language>en-US</dc:language>
  <cp:lastModifiedBy>user</cp:lastModifiedBy>
  <cp:lastPrinted>2002-09-12T11:34:57Z</cp:lastPrinted>
  <dcterms:modified xsi:type="dcterms:W3CDTF">2002-11-09T05:06:09Z</dcterms:modified>
  <cp:revision>8</cp:revision>
  <dc:subject/>
  <dc:title>Kein Folientitel</dc:title>
</cp:coreProperties>
</file>