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085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4C26-EDC0-44AF-8A30-41DDAF54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8BF-0205-43BE-923A-DF9110CE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C53-5DDF-47F2-8589-372E2755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8B0-4280-49CA-A59E-7A79CC34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53B-B691-4713-BC7B-C8610D42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A87-5917-4135-8C08-EA68AD69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B13-0B65-4C61-BCB7-6FC0F330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589-7B13-4131-9257-0380EA1E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438-7BBF-4F66-BEA2-58C4752A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14B-6BF9-4767-AB14-6852CA11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B80-4D6F-48A8-83D1-A0B63B10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6DB-ABBC-49CD-A734-F8B3115F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9FED-78E2-45E3-8D41-05825925A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5080" y="533520"/>
            <a:ext cx="8456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ollowing figure shows the effect of the two changes on the predicted distribution of convec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cipitation. The left hand figure shows the results of the operational model, the right hand part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s of the modified model. The suppression of small amounts of convective precipitation in ra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 areas is obviou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onv_2880x1858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13:55:30Z</dcterms:created>
  <dc:creator>Testuser</dc:creator>
  <dc:description/>
  <dc:language>en-US</dc:language>
  <cp:lastModifiedBy>Testuser</cp:lastModifiedBy>
  <cp:lastPrinted>2002-11-01T14:25:50Z</cp:lastPrinted>
  <dcterms:modified xsi:type="dcterms:W3CDTF">2002-11-01T14:26:01Z</dcterms:modified>
  <cp:revision>2</cp:revision>
  <dc:subject/>
  <dc:title>Kein Folientitel</dc:title>
</cp:coreProperties>
</file>