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0085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2C2-F82A-45F2-90F5-672E5E85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9B87-446C-4D4A-BCAC-E8B8AE8A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F12-5E0B-40E1-99A5-5558E26E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B64-F3F9-4BF7-8D15-846DB4D6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507-1AAA-44F6-BDD7-DA39A935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9C2-3D07-47D1-AC52-D0937EA2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71B-2227-4F59-9F93-0C9486B0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2EF-09DF-4ECB-B8C9-9DA7CBFF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3A61-DC98-4D08-AAB9-983D1B35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66A-0C2C-4580-9906-B8081F28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194-2F84-4B1A-B860-B24131DE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9803-EAE8-4CFA-BB4E-DB61F121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F493-4213-4118-B283-EE4E5E381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1430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1430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2767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32767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11430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34520" y="11430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248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248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62485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8120" y="30132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 h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10516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5560" y="49860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160" y="60948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4724280"/>
            <a:ext cx="152280" cy="1524240"/>
          </a:xfrm>
          <a:prstGeom prst="upDownArrow">
            <a:avLst>
              <a:gd name="adj1" fmla="val 50000"/>
              <a:gd name="adj2" fmla="val 1992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3120" y="499104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precip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4920" y="446076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h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4724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981080"/>
            <a:ext cx="228600" cy="2667240"/>
          </a:xfrm>
          <a:prstGeom prst="upArrow">
            <a:avLst>
              <a:gd name="adj1" fmla="val 50000"/>
              <a:gd name="adj2" fmla="val 29169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79440" y="293364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3276720"/>
            <a:ext cx="152640" cy="2971800"/>
          </a:xfrm>
          <a:prstGeom prst="upDownArrow">
            <a:avLst>
              <a:gd name="adj1" fmla="val 50000"/>
              <a:gd name="adj2" fmla="val 3875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22280" y="422928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precip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2057400"/>
            <a:ext cx="228600" cy="4038480"/>
          </a:xfrm>
          <a:prstGeom prst="upArrow">
            <a:avLst>
              <a:gd name="adj1" fmla="val 50000"/>
              <a:gd name="adj2" fmla="val 44165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23040" y="316224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13:46:23Z</dcterms:created>
  <dc:creator>Testuser</dc:creator>
  <dc:description/>
  <dc:language>en-US</dc:language>
  <cp:lastModifiedBy>Testuser</cp:lastModifiedBy>
  <cp:lastPrinted>2002-09-12T14:32:40Z</cp:lastPrinted>
  <dcterms:modified xsi:type="dcterms:W3CDTF">2002-09-12T14:32:47Z</dcterms:modified>
  <cp:revision>2</cp:revision>
  <dc:subject/>
  <dc:title>Kein Folientitel</dc:title>
</cp:coreProperties>
</file>