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085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B347-35D3-40B1-8230-74ACA690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A46-FEA8-4337-B54B-6998EB79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41F-6DB0-4F23-84B5-958C3C6F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0345-FBA8-4A92-B66F-2DA91AA8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178-AFB9-458C-B1A2-4024ECDB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CE2-3DE2-4B41-9CAE-36AED3C6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2EF-2638-41B2-A994-909DD573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546-E2B4-479D-AC08-8C31F6D5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D8F1-C494-45C5-9722-03901C1C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9D7-1D4C-47DC-A26B-09E62DA8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2B6-1AF2-461B-8973-643ED2EE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E4A-F288-4BDE-BEB1-DF4EE927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5E68-E67E-4AEE-849F-CF1C5B033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459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Convective driz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5360" y="1336680"/>
            <a:ext cx="612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the Tiedtke convection scheme t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duce widespread ‘convective drizzle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wo assump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cheme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ight be respon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3124080"/>
            <a:ext cx="6581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no physically sound minimum value </a:t>
            </a: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   of cloud base massflu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Only for computationa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security a minimum value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kg/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)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prescri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In the lowest 100 hPa of a convective cloud</a:t>
            </a:r>
            <a:br>
              <a:rPr sz="2400"/>
            </a:b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   transformation of cloud water to rain water is</a:t>
            </a:r>
            <a:br>
              <a:rPr sz="2400"/>
            </a:b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   ignor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 transformation process start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100 hPa above cloud base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a test run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the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umptions are replac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Convection is suppressed if the cloud base</a:t>
            </a:r>
            <a:br>
              <a:rPr sz="2400"/>
            </a:b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   massflux is less than 10</a:t>
            </a:r>
            <a:r>
              <a:rPr b="0" lang="en-GB" sz="2400" spc="-1" strike="noStrike" baseline="30000">
                <a:solidFill>
                  <a:srgbClr val="ff6600"/>
                </a:solidFill>
                <a:latin typeface="Times New Roman"/>
              </a:rPr>
              <a:t>-3</a:t>
            </a: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 kg/(m</a:t>
            </a:r>
            <a:r>
              <a:rPr b="0" lang="en-GB" sz="2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cloud depth is less than 200 hPa, no</a:t>
            </a:r>
            <a:br>
              <a:rPr sz="2400"/>
            </a:b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   precipit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generated. </a:t>
            </a: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In the other cases</a:t>
            </a:r>
            <a:br>
              <a:rPr sz="2400"/>
            </a:b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   precipitation is generated over the whole dep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12:38:42Z</dcterms:created>
  <dc:creator>Testuser</dc:creator>
  <dc:description/>
  <dc:language>en-US</dc:language>
  <cp:lastModifiedBy>Testuser</cp:lastModifiedBy>
  <cp:lastPrinted>2002-09-12T14:44:37Z</cp:lastPrinted>
  <dcterms:modified xsi:type="dcterms:W3CDTF">2002-09-12T14:44:46Z</dcterms:modified>
  <cp:revision>3</cp:revision>
  <dc:subject/>
  <dc:title>Kein Folientitel</dc:title>
</cp:coreProperties>
</file>