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10.gif" ContentType="image/gif"/>
  <Override PartName="/ppt/media/image1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4.wmf" ContentType="image/x-wmf"/>
  <Override PartName="/ppt/media/image6.wmf" ContentType="image/x-wmf"/>
  <Override PartName="/ppt/media/image19.jpeg" ContentType="image/jpeg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6070-040E-40EE-9A35-E499C4D7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8D0-6014-4CB9-8889-B1DC4B0E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026-4555-4C3B-AE99-6AB31447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6FA-F51C-422A-9742-22D0BA28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EC7A-ACE9-4B26-9860-6F2637C1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4B2-9AF1-4A74-BF97-43E6A70E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1FCF-ED78-46FC-B5D3-8F2631E6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47F-7E88-494D-B20F-1CE20291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631C-3015-42DF-9124-ADBF5F8F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826-D235-4DE6-9358-73CB80A2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0BD-70BF-44D0-9E71-D8F13710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5DC-3DF0-4090-8902-9C2D012A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522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-21.09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555640" y="6381360"/>
            <a:ext cx="4181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9th General COSMO Meeting --- Athens, Gree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EB63-E176-48F9-AABC-716865759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093080" y="333360"/>
            <a:ext cx="1871640" cy="5158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115920"/>
            <a:ext cx="866880" cy="866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LM_Z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Overview Status Re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2000" y="3644640"/>
            <a:ext cx="64008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roject Leader: Ulrich Schätt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uccessor of Jürgen Stepp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in Assim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increments of the data assimilation are only computed in the Terrain-following gr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is is done after the dynamics and after (!) the swapping of the tendenc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o we had a COSMO-common problem with missing communication: The Z-grid „was not informed“ about the changes in the TF-gr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emedy: Additional swapping of the assimilation increments to the Z-gr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nd rerun the experiment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B38-1405-4BBC-8446-0068C52BAE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Some Verification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916280"/>
          <a:ext cx="122076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16280"/>
                    <a:ext cx="122076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59120" y="143352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00 UTC:   July 2006              August 2006                January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9640" y="36450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2 UTC:   July 2006              August 2006                January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780000" y="1989000"/>
            <a:ext cx="1028520" cy="144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826920" y="4292640"/>
            <a:ext cx="924120" cy="1295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780000" y="4221000"/>
            <a:ext cx="976320" cy="1368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516720" y="1989000"/>
            <a:ext cx="1065240" cy="1492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6516720" y="4221000"/>
            <a:ext cx="1012680" cy="1419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2124000" y="1989000"/>
            <a:ext cx="863640" cy="6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2050920" y="2708280"/>
            <a:ext cx="1019160" cy="72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4932360" y="1903320"/>
            <a:ext cx="1008000" cy="712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1"/>
          <a:stretch/>
        </p:blipFill>
        <p:spPr>
          <a:xfrm>
            <a:off x="4932360" y="2781360"/>
            <a:ext cx="1019160" cy="720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7740720" y="1844640"/>
            <a:ext cx="1162080" cy="820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3"/>
          <a:stretch/>
        </p:blipFill>
        <p:spPr>
          <a:xfrm>
            <a:off x="7812000" y="2852640"/>
            <a:ext cx="1019160" cy="72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E89-225F-48C0-8D76-BAA7335384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M_Z vs. LM_T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o prognostic precipitation and no new microphysics for LM_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reatment of micro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TF-version it is done at the end of the time-stepping (working on the prognostic variables), in the Z-version it is (still) done at the beginning (working on the tendenc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reatment of horizontal dif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TF-version it is done at the end of the dynamics (for timelevel n+1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the Z-version it is done at the beginning of the dynamics (for timelevel n-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279-CA7E-46D9-B710-B28986D6E8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M_Z vs. LM_T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reatment of turbulent diffusion parameterization and vertical adv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 TF-version both parts are solved together with an over-implicit Crank-Nicols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 Z-Version the turbulent diffusion parameterization can be done explicit (imode_turb=2) or implicit (imode_turb=3) apart from the dynamics in the turbulence parameterization. The vertical advection is done explicit in any case (still work is done by Lucio and Heinz-Wern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9BC9-CBAA-40AE-9727-3E767983B4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956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 of LM_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Experiments at DWD (second run) only finished last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ue to this (and work-overload of several people involved) the Report on the evaluation has not been 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t will be delivered in 2-3 mon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75B-DB41-4964-A2FD-ACAA391569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0"/>
            <a:ext cx="70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6794640" cy="1770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4869000"/>
            <a:ext cx="58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Thank you for your Att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7F7-5AE8-49D9-9949-C6E8BB40FC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740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Work Plan for 2006/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o precise work plan has been put up after the last General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ut the necessary work was cle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oftware / Librar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 a large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ysics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 of data assim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orting to actual COSMO-Model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est cases and Experi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rite a report about the evaluation of LM_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9F55-27EB-463D-B490-26E965EEED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754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Software /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ovember: Version 1.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ug fixes from Lucio Torrisi (physics inte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ecembe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isit from Lucio Torrisi to DW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sion 1.7: Changes from Heinz-Werner Bitzer to allow larger time steps (nearly as big as the TF ver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ril: Version 1.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sed on COSMO-Model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ditional bug fi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 of imode_turb=3 for Kyr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July: Version 1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ug fixes in the use of the data assim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B793-1177-43D7-8804-4644210304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278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Test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4842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eteoSwis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 flash floods (convective) events (Silke Die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ports a pixel-like precipitation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lightly positive effect from the Z-coordinates compared to terrain-following with identical set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UT: stronger positive effect from prognostic precipitation and Runge-Kut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ow-stratus episode from 04-07 December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HN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st Cases for 17, 18 and 19 Nov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s with COSMO-Model 3.15, LM_Z 1.5 and LM_Z 1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 differences between 1.5 and 1.9 are rather significa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BA5-2980-4DAF-8CC1-F2D6E7EE8D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4797360"/>
            <a:ext cx="21600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3068640"/>
            <a:ext cx="21600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341360"/>
            <a:ext cx="14472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5641920"/>
            <a:ext cx="691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erved and Forecasted Precipitation Heights (06-18 UTC) from LM_Z and LM.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 with no precipitation shown correspo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neither observed nor forecasted precipit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38280" y="140652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8280" y="14065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613880" y="555480"/>
            <a:ext cx="65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17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experiment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LM_TF_v3.15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M_Z_v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-34920" y="1262160"/>
          <a:ext cx="9144000" cy="4254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34920" y="1262160"/>
                    <a:ext cx="914400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10160" y="1044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48960" y="-79200"/>
            <a:ext cx="44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urtesy: Euripides Avgoustogl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889-4661-45BF-A55D-2BF5A4885D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-34920" y="1262160"/>
          <a:ext cx="9144000" cy="425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920" y="1262160"/>
                    <a:ext cx="914400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187280" y="5641920"/>
            <a:ext cx="691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erved and Forecasted Precipitation Heights (06-18 UTC) from LM_Z and LM.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 with no precipitation shown correspo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neither observed nor forecasted precipit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21440" y="555480"/>
            <a:ext cx="47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17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experiment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M_Z_v1.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0160" y="1044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48960" y="-79200"/>
            <a:ext cx="44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urtesy: Euripides Avgoustogl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715-B332-406D-BE57-7A6B3F7950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2505240" cy="13478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058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icit treatment of vertical turbulence diffusion (imode_turb=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628280"/>
            <a:ext cx="8763120" cy="478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dified Crank-Nicholson scheme and linear tri- diagonal equation system adapted from the COSMO-TF co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me parameters for horizontal average of diff. coeff. 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me vertical varying implicitness of COSMO-TF:     β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0.75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p-850h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      0.75 -1.2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50h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bott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932360" y="3789360"/>
            <a:ext cx="3745080" cy="2397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00000" y="4653000"/>
            <a:ext cx="2460600" cy="1361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45320" y="114444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urtesy: Lucio Torr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08BE-C6DE-4AC8-981B-9878A07735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646600" cy="3994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446640" y="2421000"/>
            <a:ext cx="5697360" cy="40305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868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h Tot. Prec. COSMO-Z/T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0360" y="50846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MO-Z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80720" y="213372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MO-T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46040" y="121752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urtesy: Lucio Torr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8FE-C2F6-4A58-8F33-792D621B5F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riments at DW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 periods were run at DW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04-14 July 2006: convective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5-31 August 2006: convective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01-31 January 2007: stormy winter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ull assimilation cycles and 2 forecasts (00 and 12 UTC + 30 hours) for LMQ-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ntrol experiments with TF grid but identical configuration to LM_Z (no prog. prec.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UT: The verifications showed problems for 00 UTC! This indicated problems in the data assimi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5DC-ABDC-4285-8426-E34E3E7080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09:39:50Z</dcterms:created>
  <dc:creator>Ulrich Schättler (Dr.)崀瞥_x0018_</dc:creator>
  <dc:description/>
  <dc:language>en-US</dc:language>
  <cp:lastModifiedBy>uschaett</cp:lastModifiedBy>
  <dcterms:modified xsi:type="dcterms:W3CDTF">2007-09-19T06:19:28Z</dcterms:modified>
  <cp:revision>48</cp:revision>
  <dc:subject/>
  <dc:title>Overview on the Work of WG 6</dc:title>
</cp:coreProperties>
</file>